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902-66BA-42C2-ACAE-A0116FBB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842-240F-465B-9C5D-B767986D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0EB-4DAD-4055-9F36-3D368320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E69-64DD-4D97-AE04-A107B20C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39DA-3E33-4B4A-A0F9-BDA9D04C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0F19-375A-4FDF-80DA-C00F2269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6C2A-1523-4D7C-93D3-BA374271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D6B3-7ADB-497D-91A8-D3098FB3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789B-26FB-4175-9091-049DEDC5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AB1D-5B29-4617-A201-C39EAEC3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87B9-E636-4935-AB7A-546BBCDE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00E-8CC8-42BE-936C-9C8A9C4F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9A16-BA90-446F-A3CF-1BB3F85C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71CD-DC6C-460F-BC9B-4DDAE9CF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AE0C-95A0-4414-840F-86AB18C2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E5F6-7C93-4640-9795-8462BF1A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9FAE-99CC-45A8-A5EE-C3A5D90F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7DEA-5544-4734-A197-962DF5A6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703A-C1B3-4107-A69F-E1A8951F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B6B0-8487-41AB-97A8-342381D0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87AD2-8670-4E22-B3C5-FBD5C17D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7E92-70C5-4259-A633-C22E0CBB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C42-3850-45A3-B61F-911A7A98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8AA81-77D2-4935-995E-100DA94D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EF35-81D2-43E2-B4F2-B921EF9A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2CB57-75A2-475C-8C78-4E716613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44DA-5E9D-409D-BC60-6221F60A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D3A19-112E-4FA7-8B95-DA1AF143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EA0C-E8C2-49A1-9EAA-9AE926F1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D03A-BC91-4C73-B610-E284ED01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9B1DC-F15E-4B7C-854C-E604F91B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8DF71-2260-41FF-8AAA-8ACA3534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D296-7408-40D9-9A85-C133984D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15D-9FB5-4A62-B744-F415B246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F2FD3-89FE-4DE4-8400-D959B5C8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3101-1AD1-41E4-ADCE-D2B31072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EDEF-52FE-4E64-AE30-A6E4F0AE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53C0E-6E77-4174-AA3E-21E78318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6A186-DE1E-47F1-938B-141C7026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8BCAA-6938-4EE5-8440-A8B47337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1279A-F195-4897-9B43-174D91ED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DCF8E-5332-450C-B851-CD62F142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798BC-1566-43AA-9F68-701E95B5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0C0-3B04-4590-A5F8-D9794447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FA7-1B8E-452C-B400-A38D8FD1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517-D32F-41B3-88D3-E77FAAB2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EC5-2F6A-4235-88AE-FFBC7D01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B85-BA83-4924-90E7-839B3F9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9782-F004-4CC0-A8DC-97AED6E84D5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EC27-C5D7-47A8-B6E7-FC578C4CDBB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786E-016A-4045-B6F2-27A93B9A7FB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B0E3-116C-4EDD-BE74-FC1944A3ADE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1GdTTCRw1sw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8_f-8ISZ164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2d700"/>
                </a:solidFill>
                <a:latin typeface="Arial"/>
                <a:ea typeface="Arial"/>
              </a:rPr>
              <a:t>СИНТЕЗА ПРОТЕИНА- ТРАНСЛ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Полирибозо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rcRect l="52500" t="62976" r="0" b="8882"/>
          <a:stretch/>
        </p:blipFill>
        <p:spPr>
          <a:xfrm>
            <a:off x="1600200" y="4267080"/>
            <a:ext cx="5288040" cy="23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rcRect l="52500" t="32646" r="0" b="42226"/>
          <a:stretch/>
        </p:blipFill>
        <p:spPr>
          <a:xfrm>
            <a:off x="1905120" y="1981080"/>
            <a:ext cx="480348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9800" y="291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д, кодон, антикодон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9440" y="1792080"/>
            <a:ext cx="3721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Ko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Кодон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иР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Антикодо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тР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4191120" y="1798560"/>
            <a:ext cx="4680000" cy="4002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990720" y="4618080"/>
            <a:ext cx="2939760" cy="22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70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ТРАНСЛАЦИЈ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превођење информ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880" y="190476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1. Активација и повезивањ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НК са 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минокиселин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ницијација трансл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Елонгација полипеп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инација трансл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9680" indent="-49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rcRect l="7038" t="2321" r="0" b="16367"/>
          <a:stretch/>
        </p:blipFill>
        <p:spPr>
          <a:xfrm>
            <a:off x="4813200" y="2432160"/>
            <a:ext cx="4330800" cy="40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Активација и повезивање тРНК са аминокиселино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Content Placeholder 3" descr=""/>
          <p:cNvPicPr/>
          <p:nvPr/>
        </p:nvPicPr>
        <p:blipFill>
          <a:blip r:embed="rId1"/>
          <a:stretch/>
        </p:blipFill>
        <p:spPr>
          <a:xfrm>
            <a:off x="600120" y="2011320"/>
            <a:ext cx="7943760" cy="43894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1866960" y="62118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к+Е+АТП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g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к~Е~АМП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к+Е~АМП+тРНК-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тРНК~Ак+Е+А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/>
              </a:rPr>
              <a:t>https://www.youtube.com/watch?v=1GdTTCRw1sw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32446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784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Инициј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3886200" y="203040"/>
            <a:ext cx="4235400" cy="6654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084320" cy="60948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3"/>
          <p:cNvGrpSpPr/>
          <p:nvPr/>
        </p:nvGrpSpPr>
        <p:grpSpPr>
          <a:xfrm>
            <a:off x="762120" y="3073320"/>
            <a:ext cx="2590560" cy="2338560"/>
            <a:chOff x="762120" y="3073320"/>
            <a:chExt cx="2590560" cy="2338560"/>
          </a:xfrm>
        </p:grpSpPr>
        <p:pic>
          <p:nvPicPr>
            <p:cNvPr id="212" name="Picture 1" descr=""/>
            <p:cNvPicPr/>
            <p:nvPr/>
          </p:nvPicPr>
          <p:blipFill>
            <a:blip r:embed="rId3"/>
            <a:stretch/>
          </p:blipFill>
          <p:spPr>
            <a:xfrm>
              <a:off x="891000" y="3304080"/>
              <a:ext cx="236484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Oval 2"/>
            <p:cNvSpPr/>
            <p:nvPr/>
          </p:nvSpPr>
          <p:spPr>
            <a:xfrm>
              <a:off x="762120" y="3073320"/>
              <a:ext cx="2590560" cy="2338560"/>
            </a:xfrm>
            <a:prstGeom prst="ellipse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Елонгација полипептид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5translation"/>
          <p:cNvPicPr/>
          <p:nvPr/>
        </p:nvPicPr>
        <p:blipFill>
          <a:blip r:embed="rId1"/>
          <a:stretch/>
        </p:blipFill>
        <p:spPr>
          <a:xfrm>
            <a:off x="2819520" y="1828800"/>
            <a:ext cx="5029200" cy="4843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page9image12762768"/>
          <p:cNvPicPr/>
          <p:nvPr/>
        </p:nvPicPr>
        <p:blipFill>
          <a:blip r:embed="rId2"/>
          <a:stretch/>
        </p:blipFill>
        <p:spPr>
          <a:xfrm>
            <a:off x="291960" y="2971800"/>
            <a:ext cx="2006640" cy="19256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4. Термина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транслациј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2921040" y="1611360"/>
            <a:ext cx="3556080" cy="52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нимација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е и </a:t>
            </a:r>
            <a:br>
              <a:rPr sz="5000"/>
            </a:b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трансл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40840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youtube.com/watch?v=8_f-8ISZ16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rcRect l="12500" t="35003" r="18752" b="0"/>
          <a:stretch/>
        </p:blipFill>
        <p:spPr>
          <a:xfrm>
            <a:off x="2286000" y="342900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22-08-25T14:36:03Z</dcterms:modified>
  <cp:revision>184</cp:revision>
  <dc:subject/>
  <dc:title>2-Humani genom</dc:title>
</cp:coreProperties>
</file>